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125-DE96-45ED-A87C-0FB8B504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268496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240-4F49-43AD-956D-4EBCC72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4F0-9487-4DE0-B41A-2B070A7D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511920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2684960"/>
            <a:ext cx="1271988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D4E-3E9B-444A-AD38-9A0211A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763-4704-4F49-81C2-D68D6B13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A6B-90E2-4174-BD2F-07A7193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495-4012-4CC0-87E0-B6929A3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8B2-A572-474B-B640-16546F5B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878040"/>
            <a:ext cx="3950352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5A6-E3A1-4780-A283-FB1C299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7A2-A16E-48E8-B3DB-8159B7A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268496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3D7-622E-4C3D-97AA-4545FDA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5119200"/>
            <a:ext cx="1927764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2684960"/>
            <a:ext cx="39503520" cy="6909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28A-B637-4BB3-BDE0-66E4AFB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878040"/>
            <a:ext cx="39503520" cy="3657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5119200"/>
            <a:ext cx="39503520" cy="14484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 fontScale="85000"/>
          </a:bodyPr>
          <a:p>
            <a:pPr marL="1199520" indent="-119952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99936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3996720" indent="-79884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5595480" indent="-79992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7194960" indent="-79884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19984680"/>
            <a:ext cx="102427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19984680"/>
            <a:ext cx="139003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19984680"/>
            <a:ext cx="10242720" cy="1523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F39F-8A5E-4B53-9F13-43365B92C54A}" type="slidenum">
              <a:rPr b="0" lang="en-US" sz="5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>
            <a:off x="0" y="3149640"/>
            <a:ext cx="438912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264960"/>
            <a:ext cx="43891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1" lang="en-US" sz="7800" spc="-1" strike="noStrike">
                <a:solidFill>
                  <a:srgbClr val="ffffff"/>
                </a:solidFill>
                <a:latin typeface="Verdana"/>
              </a:rPr>
              <a:t>Synthesis Of Propionic Acid from Synga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Sabah Basrawi, Alex Guerrero, Mrunal Patel, Kevin Thomps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University of Illinois at Chica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6939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Descrip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85800" y="4348080"/>
            <a:ext cx="94489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8658360"/>
            <a:ext cx="1035828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3532920" y="1161900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33520" y="9354960"/>
            <a:ext cx="9753480" cy="75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3451920" y="12415680"/>
            <a:ext cx="10439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own information here. Remember, you can change the template colors to suit your own tas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6336800" y="3693960"/>
            <a:ext cx="1035864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Flow Diagra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1201400" y="987732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lant Layou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1277720" y="10726560"/>
            <a:ext cx="10210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183243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533520" y="19108800"/>
            <a:ext cx="9448560" cy="41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15320880"/>
            <a:ext cx="10358280" cy="52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Design Basi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57200" y="16016400"/>
            <a:ext cx="975348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2360"/>
                <a:tab algn="l" pos="7524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33532920" y="369396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3527880" y="43909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the template is only to get you started, and can be changed to suit your uniqu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33532920" y="8831160"/>
            <a:ext cx="10358280" cy="52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Uses of Propionic Aci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33527880" y="95137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the template is only to get you started, and can be changed to suit your uniqu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33532920" y="18710280"/>
            <a:ext cx="1035828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33527880" y="19465920"/>
            <a:ext cx="9982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own information here. Remember, you can change the template colors to suit your own tas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2097880" y="9877320"/>
            <a:ext cx="10358640" cy="5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noAutofit/>
          </a:bodyPr>
          <a:p>
            <a:pPr algn="ctr">
              <a:tabLst>
                <a:tab algn="l" pos="0"/>
                <a:tab algn="l" pos="3762360"/>
                <a:tab algn="l" pos="7524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rocess Floor Pl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2097880" y="10659960"/>
            <a:ext cx="103633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tabLst>
                <a:tab algn="l" pos="0"/>
                <a:tab algn="l" pos="3762360"/>
                <a:tab algn="l" pos="7524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ert your text here. Remember, you can change your font size to fit your data. In general, the larger your font, the easier it is for others to re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920" y="21328200"/>
            <a:ext cx="438912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6:31:58Z</dcterms:created>
  <dc:creator>Cindy Kranz</dc:creator>
  <dc:description>1-800-347-2744</dc:description>
  <dc:language>en-US</dc:language>
  <cp:lastModifiedBy>Kevin Thompson</cp:lastModifiedBy>
  <dcterms:modified xsi:type="dcterms:W3CDTF">2011-04-06T18:23:42Z</dcterms:modified>
  <cp:revision>18</cp:revision>
  <dc:subject/>
  <dc:title>Style J 24 by 48</dc:title>
</cp:coreProperties>
</file>